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6047-58F9-4093-A81C-6DFE36FF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D70-0AFA-4095-998A-A816DC9E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4F0-948E-4974-9976-13746080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EF6-F927-424E-991A-48004FAA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342-6572-4471-B7C6-7C90E3FA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189C-36ED-461B-8204-1D261507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3BF-3B33-49D1-873F-D8266A95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7B4-E090-49A4-800B-7CBD12B7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A698-DA61-43BB-BBDB-A4D795A8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2138-42EA-4D93-9C3B-5A86F7CE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D721-0F34-4785-BB47-BCBEF737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8B1-86E3-496F-A4EB-D2F81620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51E2-95F7-433E-A382-34B85531C1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43DA-51CE-45B5-AED6-1363FF624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BA65-883C-4FB5-8AA6-8FCF0C918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28600" y="2100240"/>
            <a:ext cx="86868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uctured Query Languag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SQL)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B2CB-831E-4B5B-B997-8A4166F52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228600" y="455760"/>
            <a:ext cx="86868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ABLE Sailors (sid NUMBER(2), sname VARCHAR2(20), rating NUMBER(2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TER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ding a new field in to the existing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ntax: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 TABLE table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(fieldname  Field_data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: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 TABLE Sail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(age NUMBER(2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EDEF-E2EA-47A4-8459-EC1D296DA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228600" y="380880"/>
            <a:ext cx="87631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ifying an existing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ntax: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 TABLE table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(fieldname   new_field_dataty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 TABLE Sailors MODIFY (age NUMBER(3,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leting an existing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ntax: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 TABLE table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 COLUMN  Field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 TABLE Sailors DROP COLUMN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0088-10F3-4207-8440-595F229F0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304920" y="495360"/>
            <a:ext cx="853416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OP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delete an existing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ntax: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 TABLE table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 TABLE Sai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UNCATE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NCATE Removes all rows from a table without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ntax: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NCATE table table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NCATE table Sai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29D7-288F-434B-A193-5856A6F0F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28600" y="0"/>
            <a:ext cx="8763120" cy="69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ML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SERT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serting record into a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ntax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INTO table-name VALUES (field1,field2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INTO Sailors values (22,'Dustin',7,45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serting a record that has some null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identifying the fields that actually ge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ntax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INTO table-name (field1,field4) VALUES (value1,value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010E-878C-4C95-8FA3-B30E8302E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228600" y="338040"/>
            <a:ext cx="86868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serting records from another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ntax: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INTO table_name1 SELECT * FROM table_nam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PDATE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modifying attribute values of (some) tuples in a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ntax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tablename SET column1=value1,…, columnn=valuen WHERE  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Sailors SET age=34.5 WHERE sid=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LETE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moving specified rows from a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ntax: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FROM tablename WHER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FROM Sailors WHERE sid=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5CB8-3C64-44D1-8D0B-7567B7D9C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609480" y="609480"/>
            <a:ext cx="79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moving all rows from a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ntax: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FROM table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FROM Sai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447920" y="2495520"/>
            <a:ext cx="4690800" cy="28195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2362320" y="5391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 4.2 Boats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1C33-23B5-4959-AC5C-EBF675FCC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58467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2895480" y="600084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 4.3 Reserves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5547-12F1-4A68-8346-5E8E4D3CC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80880" y="365040"/>
            <a:ext cx="838224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CL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V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RANT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used to provide access rights or privileges on the database objects to the us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  privilege_na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 object_na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 {user_name |PUBLIC}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WITH GRANT OPTION]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3F5A-552E-4699-947B-AE81DC748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380880" y="577800"/>
            <a:ext cx="8382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ilege_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access right or privilege granted to the user. Some of the access rights are ALL, EXECUTE, and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_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atabase object name like TABLE, VIEW, STORED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_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name of the user to whom an access right is being gra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ed to grant access rights to all user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D07B-A741-45AC-8745-441270115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3520" y="685800"/>
            <a:ext cx="807696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GRANT O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allows a user to grant access rights to other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 SELECT ON employee TO user1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QL REVOKE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VOKE command removes user access rights or privileges to the database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1BDD-04D1-4EBB-9072-676C14CD5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228600" y="380880"/>
            <a:ext cx="86868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is  the most widely used commercial relational databas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FORM OF A BASIC SQL 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 [DISTINCT] field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abl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clause contains fields to be displayed in the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clause contains tabl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WHERE clause contains conditions on the tables mentioned in the FROM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D986-EF67-40DD-81FC-BF4DFAC57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80880" y="449280"/>
            <a:ext cx="84582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OKE  privilege_na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 object_na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 {user_name |PUBLIC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OKE SELECT ON employee FROM user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OKE a SELECT privilege on employee table from use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1 will not be able to SELECT data from that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B5C9-32F2-43F3-9700-4C52A75A9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228600" y="228600"/>
            <a:ext cx="876312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D, OR and NOT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stion: Find the names of sailors who have reserved boat number 1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 S, Reserves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S.sid=R.sid AND R.bid=1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828800" y="3962520"/>
          <a:ext cx="2438280" cy="203832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A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sti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bb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ati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F8C0-9D7E-4228-AB5C-3DEFC586E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228600" y="228600"/>
            <a:ext cx="868680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define range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stion: Find all sailors whose age is in between 45.0 and 6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*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age BETWEEN 45.0 AND 6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76520" y="4419720"/>
          <a:ext cx="4724280" cy="2038320"/>
        </p:xfrm>
        <a:graphic>
          <a:graphicData uri="http://schemas.openxmlformats.org/drawingml/2006/table">
            <a:tbl>
              <a:tblPr/>
              <a:tblGrid>
                <a:gridCol w="811080"/>
                <a:gridCol w="1424160"/>
                <a:gridCol w="1574640"/>
                <a:gridCol w="914400"/>
              </a:tblGrid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A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sti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bb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.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89BA-641D-4FE1-8725-1D6990209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152280" y="344520"/>
            <a:ext cx="883944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check whether an attribute value matches a value contained within a set of liste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stion: Find all sailors whose age is in the list of values(15.0,33.2,45.7,63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*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age IN (15.0,33.2,45.7,63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600200" y="5410080"/>
          <a:ext cx="5029200" cy="1019160"/>
        </p:xfrm>
        <a:graphic>
          <a:graphicData uri="http://schemas.openxmlformats.org/drawingml/2006/table">
            <a:tbl>
              <a:tblPr/>
              <a:tblGrid>
                <a:gridCol w="1104840"/>
                <a:gridCol w="1409760"/>
                <a:gridCol w="1562040"/>
                <a:gridCol w="952560"/>
              </a:tblGrid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A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.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DA0B-649E-44E0-9A90-8823578EC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152280" y="152280"/>
            <a:ext cx="883944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ING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” character is used to match any sub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 character is used to match any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es patterns by using the ‘like’ comparison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*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sname LIKE '_u%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B78B-96B7-46A7-8BD3-97AD9C58B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76520" y="380880"/>
          <a:ext cx="4952880" cy="2038320"/>
        </p:xfrm>
        <a:graphic>
          <a:graphicData uri="http://schemas.openxmlformats.org/drawingml/2006/table">
            <a:tbl>
              <a:tblPr/>
              <a:tblGrid>
                <a:gridCol w="990360"/>
                <a:gridCol w="1447920"/>
                <a:gridCol w="1447920"/>
                <a:gridCol w="1066680"/>
              </a:tblGrid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A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sti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bb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sp>
        <p:nvSpPr>
          <p:cNvPr id="114" name="Rectangle 2"/>
          <p:cNvSpPr/>
          <p:nvPr/>
        </p:nvSpPr>
        <p:spPr>
          <a:xfrm>
            <a:off x="304920" y="228600"/>
            <a:ext cx="86104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*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sname LIKE 'A_d_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76520" y="5486400"/>
          <a:ext cx="5105160" cy="1019160"/>
        </p:xfrm>
        <a:graphic>
          <a:graphicData uri="http://schemas.openxmlformats.org/drawingml/2006/table">
            <a:tbl>
              <a:tblPr/>
              <a:tblGrid>
                <a:gridCol w="990360"/>
                <a:gridCol w="1524240"/>
                <a:gridCol w="1523880"/>
                <a:gridCol w="1066680"/>
              </a:tblGrid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A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3B2E-C54C-4E71-8506-ABB6E331B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52280" y="338040"/>
            <a:ext cx="883944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s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te 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sponding to relational-algebra operations U, ∩ and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 participating in the operations must b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at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i.e., must have same set of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query 1&gt; &lt;set operator&gt; &lt;query 2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urns a table consisting of all rows either appearing in the result of &lt;query1&gt; or in the result of &lt;query 2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B019-ECCE-477A-8002-3E848573B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152280" y="152280"/>
            <a:ext cx="88394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 (un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*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*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962520" y="1905120"/>
            <a:ext cx="48765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1928-B2D0-4CAA-A6FE-2172DADD5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152280" y="152280"/>
            <a:ext cx="88394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 (inters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*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RS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*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48769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1165-473F-457B-AC39-9B2BB8831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152280" y="384120"/>
            <a:ext cx="883944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 (min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*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*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ows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ested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sted query is a query that has another query embedded within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mbedded query is called a sub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9992-4F57-44B9-BD9F-4C33C7C4E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228600" y="4572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465280" y="1371600"/>
            <a:ext cx="5459400" cy="49975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819600" y="6315120"/>
            <a:ext cx="25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 4.1 Sailors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858000" y="228600"/>
            <a:ext cx="1541520" cy="8254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 (or)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92120" y="3013200"/>
            <a:ext cx="1413000" cy="11912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(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Arrow Connector 8"/>
          <p:cNvCxnSpPr>
            <a:stCxn id="49" idx="1"/>
          </p:cNvCxnSpPr>
          <p:nvPr/>
        </p:nvCxnSpPr>
        <p:spPr>
          <a:xfrm flipH="1">
            <a:off x="6019560" y="643320"/>
            <a:ext cx="838800" cy="1032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" name="Straight Arrow Connector 10"/>
          <p:cNvCxnSpPr>
            <a:stCxn id="49" idx="1"/>
          </p:cNvCxnSpPr>
          <p:nvPr/>
        </p:nvCxnSpPr>
        <p:spPr>
          <a:xfrm flipH="1">
            <a:off x="4342680" y="643320"/>
            <a:ext cx="2515320" cy="956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14"/>
          <p:cNvCxnSpPr>
            <a:stCxn id="50" idx="0"/>
          </p:cNvCxnSpPr>
          <p:nvPr/>
        </p:nvCxnSpPr>
        <p:spPr>
          <a:xfrm flipV="1">
            <a:off x="1198440" y="2590200"/>
            <a:ext cx="1774080" cy="423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16"/>
          <p:cNvCxnSpPr>
            <a:stCxn id="50" idx="0"/>
          </p:cNvCxnSpPr>
          <p:nvPr/>
        </p:nvCxnSpPr>
        <p:spPr>
          <a:xfrm>
            <a:off x="1198440" y="3012840"/>
            <a:ext cx="1697760" cy="3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4F2B-6424-40AF-9473-CB637BF1B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304920" y="228600"/>
            <a:ext cx="853416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query typically appears within the WHERE clause of a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queries can sometimes appear in the FROM clause or the HAVING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nested querie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inner subquery is completely independent of the outer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roduction to Nested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s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names of sailors who have reserved boat 1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.s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2077-0E7B-4791-A919-256BCB92E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228600" y="152280"/>
            <a:ext cx="868680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 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S.sid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R.sid FROM Reserves R WHERE R.bid=1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s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names of sailors who have reserved a blue b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.s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 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05120" y="2133720"/>
          <a:ext cx="2438280" cy="203832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A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sti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bb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ati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1DD9-A643-4564-B18F-9F5A1879B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152280" y="372960"/>
            <a:ext cx="883944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S.si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R.sid FROM Reserves R WHERE R.bid IN (SELECT B.bid FROM Boats B WHERE B.color='blue'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rrelated Nested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ed Nested Queries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ner subquer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uld dep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he row that is currently being examined in the outer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676520" y="2057400"/>
          <a:ext cx="2209680" cy="155412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A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sti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ati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8B92-4C71-47A1-B61C-8829D7107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152280" y="304920"/>
            <a:ext cx="88394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s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names of sailors who have reserved boat 1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.s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 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X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* FROM Reserves R WHERE R.bid = 103 AND R.sid = S.s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981080" y="4286160"/>
          <a:ext cx="2438640" cy="2038320"/>
        </p:xfrm>
        <a:graphic>
          <a:graphicData uri="http://schemas.openxmlformats.org/drawingml/2006/table">
            <a:tbl>
              <a:tblPr/>
              <a:tblGrid>
                <a:gridCol w="2438640"/>
              </a:tblGrid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A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sti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bb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ati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CD0F-75D9-4826-97EF-0D716B865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152280" y="152280"/>
            <a:ext cx="87202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ISTS operator is another set comparison operator, such a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llows us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whether a set is non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us, for each Sailor r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we test whether the se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Reserves row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such that R.bid = 103 AND S.sid = R.sid is nonempty. If so, sailor S has reserved boat 103, and we retrieve th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bquery clearly depends on the current r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and must be re-evaluated for each row in Sai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ccurrenc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in the subquery (in the form of the literal S.sid) is called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rela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suc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ies are calle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related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9DFB-72BB-4F37-8306-5F6A08DD9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280" y="2209680"/>
          <a:ext cx="8763120" cy="3627720"/>
        </p:xfrm>
        <a:graphic>
          <a:graphicData uri="http://schemas.openxmlformats.org/drawingml/2006/table">
            <a:tbl>
              <a:tblPr/>
              <a:tblGrid>
                <a:gridCol w="2895840"/>
                <a:gridCol w="586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l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s th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s than or equal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ter th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eater than or equal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 or != or ^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equal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2"/>
          <p:cNvSpPr/>
          <p:nvPr/>
        </p:nvSpPr>
        <p:spPr>
          <a:xfrm>
            <a:off x="228600" y="352440"/>
            <a:ext cx="86868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MPARISION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operators can be used in ‘WHERE’ clause and ‘HAVING’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663E-807C-4314-B0D3-B561D1D3A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"/>
          <p:cNvSpPr/>
          <p:nvPr/>
        </p:nvSpPr>
        <p:spPr>
          <a:xfrm>
            <a:off x="228600" y="15228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stion:</a:t>
            </a:r>
            <a:r>
              <a:rPr b="0" i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sailors whose rating is better than some sailor called Ho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1.sname, S1.r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 S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S1.rating &gt; ANY (SELECT S2.rating FROM Sailors S2 WHERE S2.sname='Horatio'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33720" y="3581280"/>
          <a:ext cx="4114800" cy="3059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</a:tblGrid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A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rb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ati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112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bb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E418-550C-4D95-B6E4-A94A177C9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152280" y="622440"/>
            <a:ext cx="883944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s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sailors whose rating is better than some sailor called Ho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1.sname, S1.r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 S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S1.rating &gt; ALL ( SELECT S2.rating FROM Sailors S2 WHERE S2.sname='Horatio'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438280" y="4151160"/>
          <a:ext cx="2971800" cy="164016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461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A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461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479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rb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F17E-3B89-461B-AEBD-238DF8812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"/>
          <p:cNvSpPr/>
          <p:nvPr/>
        </p:nvSpPr>
        <p:spPr>
          <a:xfrm>
            <a:off x="152280" y="135000"/>
            <a:ext cx="876312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GGREGATE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dition to simply retrieving data, we often want to perform some computation or summ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supports the following aggregate operators which can be applied on any column, say A, of a relation(tabl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 ([DISTINCT] A): The number of (unique) values in the A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([DISTINCT] A): The sum of all (unique) values        in the A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G ([DISTINCT] A): The average of all (unique)       values in the A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8C5E-A14C-4413-B9F1-414773AD3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228600" y="152280"/>
            <a:ext cx="86868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(A): The maximum value in the A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 (A): The minimum value in the A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t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pecify DISTINCT in conjunction with MIN or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s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average age of all sai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VG (a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133720" y="5334120"/>
          <a:ext cx="3352680" cy="101916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G(AGE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2469-6130-4974-93CA-7FBA728F0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28600" y="76320"/>
            <a:ext cx="876312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stion: Find the names and ages of all sailors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DISTINCT sname,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 Sai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t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TINCT keyword can be used to return only distinct (different) values from the specific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3657600" cy="3938760"/>
          </a:xfrm>
          <a:prstGeom prst="rect">
            <a:avLst/>
          </a:prstGeom>
          <a:ln w="0">
            <a:noFill/>
          </a:ln>
        </p:spPr>
      </p:pic>
      <p:sp>
        <p:nvSpPr>
          <p:cNvPr id="58" name="Oval 5"/>
          <p:cNvSpPr/>
          <p:nvPr/>
        </p:nvSpPr>
        <p:spPr>
          <a:xfrm>
            <a:off x="2590920" y="762120"/>
            <a:ext cx="175248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2209680" y="4114800"/>
            <a:ext cx="33530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B6A9-5758-43F2-8D4B-62924D86D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152280" y="100080"/>
            <a:ext cx="883944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s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name and age of the oldest sai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1.sname, S1.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 S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S1.age = ( SELECT MAX (S2.age) FROM Sailors S2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s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 the number of sai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COUNT (*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00200" y="2895480"/>
          <a:ext cx="5486400" cy="1019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A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.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590920" y="5638680"/>
          <a:ext cx="2514600" cy="101916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(*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12DB-2006-4B49-B79B-F9D3A58BC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52280" y="76320"/>
            <a:ext cx="883944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GROUP BY and HAVING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 applied aggregate operators to all (qualifying) rows in a relation(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BY used to apply aggregate operators to each of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umber of groups of ro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is used to place a condition, which is applied on the groups of r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eneral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[DISTINCT] field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abl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BY field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group-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656C-F1AA-4AD0-84CC-4E4410E9D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152280" y="152280"/>
            <a:ext cx="883944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s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number of sailors belongs to each rating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rating, COUNT(ra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BY 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038480" y="2362320"/>
          <a:ext cx="4800600" cy="4190760"/>
        </p:xfrm>
        <a:graphic>
          <a:graphicData uri="http://schemas.openxmlformats.org/drawingml/2006/table">
            <a:tbl>
              <a:tblPr/>
              <a:tblGrid>
                <a:gridCol w="1650960"/>
                <a:gridCol w="3149640"/>
              </a:tblGrid>
              <a:tr h="5983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(RATING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986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983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6001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983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986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983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4865-0D9E-4F40-B657-ADEDAAA61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152280" y="152280"/>
            <a:ext cx="88394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s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age of the youngest sailor for each rating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rating, MIN (a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BY 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23880" y="2895480"/>
          <a:ext cx="3733920" cy="3568680"/>
        </p:xfrm>
        <a:graphic>
          <a:graphicData uri="http://schemas.openxmlformats.org/drawingml/2006/table">
            <a:tbl>
              <a:tblPr/>
              <a:tblGrid>
                <a:gridCol w="1866960"/>
                <a:gridCol w="1866960"/>
              </a:tblGrid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(AGE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112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8017-1E53-48D5-BCFC-566E49E72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"/>
          <p:cNvSpPr/>
          <p:nvPr/>
        </p:nvSpPr>
        <p:spPr>
          <a:xfrm>
            <a:off x="152280" y="135000"/>
            <a:ext cx="883944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s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age of the youngest sailor for each rating level, which is greater than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rating, MIN(a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BY r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rating&gt;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600200" y="4057560"/>
          <a:ext cx="3733920" cy="2038320"/>
        </p:xfrm>
        <a:graphic>
          <a:graphicData uri="http://schemas.openxmlformats.org/drawingml/2006/table">
            <a:tbl>
              <a:tblPr/>
              <a:tblGrid>
                <a:gridCol w="1866960"/>
                <a:gridCol w="1866960"/>
              </a:tblGrid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(AGE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3EC1-B6BF-448F-9C74-1B3350EC8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"/>
          <p:cNvSpPr/>
          <p:nvPr/>
        </p:nvSpPr>
        <p:spPr>
          <a:xfrm>
            <a:off x="304920" y="228600"/>
            <a:ext cx="8534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DER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rder by clause is used to sort the tuples in a query result based on the values of some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s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sailors table in the ascending order of s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*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 BY s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15BB-B58A-4FD9-81EA-01A3FA6C7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"/>
          <p:cNvSpPr/>
          <p:nvPr/>
        </p:nvSpPr>
        <p:spPr>
          <a:xfrm>
            <a:off x="152280" y="152280"/>
            <a:ext cx="8839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371600" y="609480"/>
          <a:ext cx="5943600" cy="560700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  <a:gridCol w="1486080"/>
                <a:gridCol w="1485720"/>
              </a:tblGrid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A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.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112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u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sti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ati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ati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bb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rb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AEB6-6A98-432E-8DD3-FFCA82FCE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152280" y="216000"/>
            <a:ext cx="88394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s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sailors table in the descending order of s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*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 BY sname DE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755B-3488-47C8-AEE8-2BA065CF6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76520" y="641520"/>
          <a:ext cx="5790960" cy="560700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  <a:gridCol w="1447920"/>
                <a:gridCol w="1447560"/>
              </a:tblGrid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A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rb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bb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112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ati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ati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sti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u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.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sp>
        <p:nvSpPr>
          <p:cNvPr id="177" name="Rectangle 2"/>
          <p:cNvSpPr/>
          <p:nvPr/>
        </p:nvSpPr>
        <p:spPr>
          <a:xfrm>
            <a:off x="234360" y="2286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99D4-A45B-40C0-95B2-7AE46DDBD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"/>
          <p:cNvSpPr/>
          <p:nvPr/>
        </p:nvSpPr>
        <p:spPr>
          <a:xfrm>
            <a:off x="152280" y="152280"/>
            <a:ext cx="883944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UL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 far, we have assumed that column values in a row are always known. In practice column values can be 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column value is either 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the row (98,Dan,null,39) to represent Dan into sailors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INTO Sailors VALUES(98,'Dan',null,3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*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E984-408D-4577-9816-371CC3D4C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152280" y="152280"/>
            <a:ext cx="8839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stion: Find the names and ages of all sailors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SELECT sname,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 Sai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3505320" cy="4360680"/>
          </a:xfrm>
          <a:prstGeom prst="rect">
            <a:avLst/>
          </a:prstGeom>
          <a:ln w="0">
            <a:noFill/>
          </a:ln>
        </p:spPr>
      </p:pic>
      <p:sp>
        <p:nvSpPr>
          <p:cNvPr id="63" name="Oval 3"/>
          <p:cNvSpPr/>
          <p:nvPr/>
        </p:nvSpPr>
        <p:spPr>
          <a:xfrm>
            <a:off x="1828800" y="4245120"/>
            <a:ext cx="3352680" cy="403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1828800" y="5029200"/>
            <a:ext cx="327672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F838-4773-4C2A-8755-DCD0B3093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752480" y="249120"/>
          <a:ext cx="5715000" cy="611676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428840"/>
                <a:gridCol w="1428480"/>
              </a:tblGrid>
              <a:tr h="999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A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sti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u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bb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ati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rb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ati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.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sp>
        <p:nvSpPr>
          <p:cNvPr id="182" name="Rectangle 2"/>
          <p:cNvSpPr/>
          <p:nvPr/>
        </p:nvSpPr>
        <p:spPr>
          <a:xfrm>
            <a:off x="152280" y="152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3"/>
          <p:cNvSpPr/>
          <p:nvPr/>
        </p:nvSpPr>
        <p:spPr>
          <a:xfrm>
            <a:off x="4648320" y="5791320"/>
            <a:ext cx="144756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52FE-4259-4701-93B5-B17E1A4DC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"/>
          <p:cNvSpPr/>
          <p:nvPr/>
        </p:nvSpPr>
        <p:spPr>
          <a:xfrm>
            <a:off x="228600" y="299880"/>
            <a:ext cx="87631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mparisons Using Nul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a comparison such a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ting =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is is applied to the row for Dan,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ondition true or false? Since Dan's rating is unknown, it is evaluated to the val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he case for the comparison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ting &gt; 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ting &lt; 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also provides a special comparison operat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 NU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est whether a column valu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2483-5BE6-4C0E-AEDA-6145497CA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304920" y="304920"/>
            <a:ext cx="8534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we can sa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ting IS 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would evaluate to true on the row representing 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also sa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ting IS NOT 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would evaluate to false on the row for 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*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rating IS N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523880" y="5334120"/>
          <a:ext cx="5867640" cy="1019160"/>
        </p:xfrm>
        <a:graphic>
          <a:graphicData uri="http://schemas.openxmlformats.org/drawingml/2006/table">
            <a:tbl>
              <a:tblPr/>
              <a:tblGrid>
                <a:gridCol w="1467000"/>
                <a:gridCol w="1467000"/>
                <a:gridCol w="1466640"/>
                <a:gridCol w="1467000"/>
              </a:tblGrid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A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09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A135-779A-4D7B-A98D-B15D834B0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228600" y="235080"/>
            <a:ext cx="86868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ogical Connectives AND, OR, and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Boolean expressions such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ng = 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e &lt; 4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8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 &lt; 40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ing the row for Dan again, because age &lt; 40, the fir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 evaluates to true regardless of the valu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ng, but what about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? We can only say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press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unkn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fined to be 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807D-31E9-4FAE-8E1C-614B61917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228600" y="297000"/>
            <a:ext cx="86868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 of two argum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either argument evaluate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kn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one argument evaluate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 other evaluate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D of two argu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aluate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either argument evaluates to false, and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kn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one argument evaluate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kn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 other evaluate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mpact on SQL Constr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presenc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l values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row that evaluates to false or to unknown is eli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141A-8CA4-4033-9AC2-E4367890D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"/>
          <p:cNvSpPr/>
          <p:nvPr/>
        </p:nvSpPr>
        <p:spPr>
          <a:xfrm>
            <a:off x="304920" y="228600"/>
            <a:ext cx="853416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ing rows that evaluate to unknown has a subtle but significant impact on queries, especially nested queries involving EXISTS or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compare tw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l values using =, the result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known! In the context of duplicates, this comparison is implicitly treated as true, which is an anom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ithmetic operations 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-  ,* , / and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retur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one of their arguments is n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id, rating, sid+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F45D-A54B-43AD-B134-2C3342AA9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133720" y="295200"/>
          <a:ext cx="5105160" cy="6137280"/>
        </p:xfrm>
        <a:graphic>
          <a:graphicData uri="http://schemas.openxmlformats.org/drawingml/2006/table">
            <a:tbl>
              <a:tblPr/>
              <a:tblGrid>
                <a:gridCol w="838080"/>
                <a:gridCol w="1600200"/>
                <a:gridCol w="2666880"/>
              </a:tblGrid>
              <a:tr h="511920"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D + RA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11920"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11920"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11920"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11920"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11920"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11920"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11920"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11920"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11920"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11920"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11920"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84600" rIns="84600" tIns="42480" bIns="424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sp>
        <p:nvSpPr>
          <p:cNvPr id="197" name="Rectangle 3"/>
          <p:cNvSpPr/>
          <p:nvPr/>
        </p:nvSpPr>
        <p:spPr>
          <a:xfrm>
            <a:off x="386640" y="2286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4"/>
          <p:cNvSpPr/>
          <p:nvPr/>
        </p:nvSpPr>
        <p:spPr>
          <a:xfrm>
            <a:off x="3200400" y="5867280"/>
            <a:ext cx="312408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5257800" y="304920"/>
            <a:ext cx="457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61A1-8615-4F30-BC63-CE4343B8D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304920" y="228600"/>
            <a:ext cx="8534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ls can cause some unexpected behavior with aggregat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(*) hand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l values just like other values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s, they get cou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COUNT(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00200" y="4983120"/>
          <a:ext cx="1905120" cy="1036800"/>
        </p:xfrm>
        <a:graphic>
          <a:graphicData uri="http://schemas.openxmlformats.org/drawingml/2006/table">
            <a:tbl>
              <a:tblPr/>
              <a:tblGrid>
                <a:gridCol w="1905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(*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59D8-2D59-45AA-98C4-D8089C795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228600" y="152280"/>
            <a:ext cx="868680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other aggregate operators (COUNT, SUM, AVG, MIN, MAX, and variations using DISTINCT) simply disca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er J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 operation that rely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l values,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e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join of two tables, say Sailors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Res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ll outer jo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‘matching rows’ plus ‘Sailors rows without a matching Reserves rows’ (columns inherited from Reserves assign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s) plus ‘Reserves rows without a matching Sailors rows’ (columns inherited from Sailors assign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s) appear in the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6629400" y="3733920"/>
            <a:ext cx="53352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2695-3C84-479E-A727-71E5A665F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"/>
          <p:cNvSpPr/>
          <p:nvPr/>
        </p:nvSpPr>
        <p:spPr>
          <a:xfrm>
            <a:off x="304920" y="152280"/>
            <a:ext cx="861048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outer jo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‘matching rows’ plus ‘Sailors rows without a matching Reserves rows’ (columns inherited from Reserves assign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s) appear in the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outer jo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‘matching rows’ plus ‘Reserves rows without a matching Sailors rows’ (columns inherited from Sailors assign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s) appear in the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te: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ner jo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matching rows appear in the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.sid,S.sname,R.bid,R.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 S LEFT OUTER JOIN Reserves R ON S.sid=R.sid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7544-4208-448F-B33E-C7EA6D92D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152280" y="152280"/>
            <a:ext cx="883944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stion: Find all sailors with a rating above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id, sname, rating,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 Sai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rating &gt;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 *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ai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rating&gt;7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"/>
          <p:cNvSpPr/>
          <p:nvPr/>
        </p:nvSpPr>
        <p:spPr>
          <a:xfrm>
            <a:off x="2971800" y="2438280"/>
            <a:ext cx="45720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447920" y="4038480"/>
            <a:ext cx="3504960" cy="1617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1523880" y="5638680"/>
            <a:ext cx="342900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76F6-AD8B-47E7-950D-BB3572161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"/>
          <p:cNvSpPr/>
          <p:nvPr/>
        </p:nvSpPr>
        <p:spPr>
          <a:xfrm>
            <a:off x="152280" y="17784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752480" y="228600"/>
          <a:ext cx="5562720" cy="6172200"/>
        </p:xfrm>
        <a:graphic>
          <a:graphicData uri="http://schemas.openxmlformats.org/drawingml/2006/table">
            <a:tbl>
              <a:tblPr/>
              <a:tblGrid>
                <a:gridCol w="914400"/>
                <a:gridCol w="1600200"/>
                <a:gridCol w="914400"/>
                <a:gridCol w="2133720"/>
              </a:tblGrid>
              <a:tr h="362880"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62880"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st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OCT-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62880"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st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OCT-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62880"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st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AUG-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62880"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st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JUL-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62880"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b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OCT-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62880"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b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JUN-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62880"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b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DEC-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62880"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-MAY-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62880"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-AUG-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62880"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-AUG-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62880"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r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62880"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62880"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62880"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62880"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62880"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sp>
        <p:nvSpPr>
          <p:cNvPr id="211" name="Oval 3"/>
          <p:cNvSpPr/>
          <p:nvPr/>
        </p:nvSpPr>
        <p:spPr>
          <a:xfrm>
            <a:off x="3962520" y="4191120"/>
            <a:ext cx="3124080" cy="228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1A40-3151-4365-B114-E6041F222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228600" y="228600"/>
            <a:ext cx="868680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allowing Nul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disall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s by specifying NOT NULL as part of the field definition, for example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CHAR2(20) NOT N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elds in a primary key are not allowed to take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n implicit NOT NULL constraint for every field listed in a PRIMARY KEY con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C873-87D0-4973-8940-A675296EB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152280" y="438120"/>
            <a:ext cx="883944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QL language has Three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ata Definition Language (DD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ata Manipulation Language (D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ata Control Language(D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 Definition Language (DDL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L supports the creation, deletion, and modification of definitions for tables and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ity constraints can be defined on tables, either when the table is created or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EA6C-9C2B-4FEE-88FF-3AC2019EB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228600" y="480960"/>
            <a:ext cx="876312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lso provide commands for creating and deleting inde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 Manipulation Language (DML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L allows users to pose queries to insert, delete, and modify 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 Control Language (DCL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L controls a database, including administrative privileges and sav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8D63-4AB2-4F45-AAD8-F657AE9D0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"/>
          <p:cNvSpPr/>
          <p:nvPr/>
        </p:nvSpPr>
        <p:spPr>
          <a:xfrm>
            <a:off x="380880" y="380880"/>
            <a:ext cx="815364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DL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RUN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REATE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create 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ntax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ABLE table-name (Fieldname1 data_type, Fieldname2 data_type , …. ….. 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09:24:12Z</dcterms:created>
  <dc:creator>snist</dc:creator>
  <dc:description/>
  <dc:language>en-US</dc:language>
  <cp:lastModifiedBy>Admin</cp:lastModifiedBy>
  <dcterms:modified xsi:type="dcterms:W3CDTF">2012-09-06T04:32:03Z</dcterms:modified>
  <cp:revision>491</cp:revision>
  <dc:subject/>
  <dc:title>Slide 1</dc:title>
</cp:coreProperties>
</file>